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DD0E-4304-47BC-8D5B-EDC74DC0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0EA9-61C1-48C9-A1B9-7D4DE9F6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3330D-873D-409B-A108-AEBACD40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023CE-34E2-4D6C-9046-8E260463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5869C-D078-460A-9A5B-B10F5A41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C1EDB-D2C8-44DD-BA99-2D6C8FCA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54618-D685-4FBA-A3B2-CA5D3556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A41B1-69C9-412D-8C81-F1BCC31D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BF1BF-EFF4-4153-B915-1B7AB026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36786-B137-4CDF-8F53-25E6282A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EC423-42B6-4574-A1E7-A5365F9E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C346C-1960-4143-9799-C466C80C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ECBF-F38C-4600-A3DA-01DF074D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B942E-6F0A-487E-A794-EB1C883D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262C5-96C7-4D25-B163-B84A4DAF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3A405-8E50-45B6-A652-91AEA32C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D8848-F477-40BF-9BBB-517ADE07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BB91F-088E-484A-876C-DB31A4C1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298FA-2102-4365-A6D1-EE5B4B1D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31A07-C906-47F0-AF52-D266FD3C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B3A4C-3918-40CC-9E52-BA83CAA3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8C619-55A0-4118-A5F6-51CFFEF8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53016-82CD-44F7-9378-F23EB5A4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D3BD-46BE-47C2-A536-00751962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95367-32A0-4F3B-8A65-6EAEBCC7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CEB12-141C-4AD4-B581-B63DF8C0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C677E-D96C-4598-8106-CF04FF12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1D674-DB5C-4025-AC46-535A1D03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F51CE-1124-4861-A739-25CE9631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80A22-8A49-4347-9ECA-71B1AB5F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01B2B-87E8-4302-9BFF-E40347E7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2F794-67A9-44F2-8F38-1385C153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682AC-5476-4875-8B64-E472098F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90153-4EAF-423D-97D6-41674FD9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52E1-E80D-4CB9-BB96-B5C17EF7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C75F0-2AA2-458F-9DC9-441D7BC3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6CE45-9D83-4F2D-A938-FBF74096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EF73C-BA4E-4DC6-A95D-E52EB20D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F960D-52B8-4CDF-9511-F8C7F3E7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C6FE0-67E5-4C75-BA0E-470F4757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923D5-C1D0-4C97-BC30-F649191E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C1928-D307-40B8-9E2D-56564321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0A17A-9E31-4332-AA3F-17F4DC8D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C99D4-BCDA-49DA-B301-A228661B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66CD6-98CE-4018-920E-02E5580B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0F6E-82F6-4EC9-B3CE-559AD338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70D56-A488-4429-9159-F12CA7A4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7D6D5-357C-4D98-84C1-1D544189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F36DD-381B-4788-9563-F516BC97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B4642-A3E6-4379-BFC6-A9D30457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72C50-564E-453D-A6C0-392F558A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27F70A-C27B-4CEE-AA9E-2326AF9E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261DAC-562F-4E95-9100-DFBCA0DD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0DC0FE-AAFB-4E25-A494-CEFDBEDA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78DC60-5EC3-4B91-B83A-EC8BAFCE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756422-2819-40C7-90D0-BC78B7FB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F89A-BA2F-402D-B5FF-BB609AB7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5D942E-C67E-4FD6-B7DB-2304DC68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699039-BD0E-40FE-93C7-38FDDA76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CDD517-7458-4123-BDC2-0A906FC1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2E9360-67EA-4C42-A914-D97250A6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8E87A7-6632-413A-99F6-31676911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5CF196-9A2B-48E1-979F-670EC401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D02C40-B9F3-4993-98B0-7D4E57ED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829340-8378-4CC5-81C8-E5552C96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0AA521-E2DE-413A-83B0-C1EC75CE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F2C4A2-D2AB-45FF-AD9E-960B44D7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8CC3-01C3-4DA3-B691-1A6F81CB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501290-4F4B-48ED-9D50-CDF9B6A4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ECC117-0007-4549-A692-0D9D6790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80A7EB-0C54-4691-9D1B-3DF66358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A02C4E-1DF1-487E-8C4E-E121F54C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306200-FA62-4BA0-B410-C6E7014A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4E31A6-41ED-468A-9702-62B95E17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7E8459-76E2-47A6-9378-A4D82AB5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B93C6B-4DA1-401F-A765-13C4B87E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45B22B-88EF-4533-8C3D-09E7C680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595A2A-F6D6-4E90-9BAE-0BC02BBD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E6B1-9E4F-4409-8AAD-DE2E7234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9B7771-3D2A-4B49-B2B9-751CA056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22011E-55C1-4B54-B9EA-40194AC0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74E62F-FDB7-400E-8191-01F8C37F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3ADA0A-2861-423B-821A-2BAA495C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85CF7E-4F38-4761-93D5-6A8CA2CF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9828B8-41A3-444D-B304-CD3ABFDB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D821CC-C31A-448A-A150-4CD7BBAD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7261B7-03F2-4613-A065-67F20D4C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FE2B49-2CF2-464C-85F0-8AF9E567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A6B186-8DF7-41C7-80B4-F70F09AC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E47A-B1FD-486E-A7FF-2A6F1113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65D3A2-8541-4236-9F78-DE568FB8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C6E83E-9D3A-415C-87F7-15748224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083E44-FC11-48A9-92C3-8E4DE208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19D849-8511-4F5D-8C34-C437DD6B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15D136-9FB1-46E8-868A-895D4430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41D814-FF1D-483F-9075-E27C91D5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CAD49A-F839-43A0-AE52-A8A8672D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F3AEA5-6DFB-47FA-8882-34D01927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6699C2-9259-4202-8D4B-07FD4CC6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AB4F7D-1B3F-4B8B-96CF-0F2718A6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E3F5-1047-4C7B-8D8F-62274115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4F779F-F384-4EE0-9705-C0A3868A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7BCD37-7860-49D8-85E8-8122D664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A9EFAA-A0FA-44E0-AE24-60B9E790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792EC4-D62C-48FF-9B67-CCF44579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8CDBD1-6D35-4551-8659-79EDF685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262671-8755-4CAC-8F87-433194CA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8F39A2-CF32-4BDE-ABDB-B178E850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3BF6C7-8398-4494-B8C5-14ED558E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96FEA9-8282-499A-A2B4-88E007C8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34307E-7A7A-416E-A530-74A844FC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9AE9-6B92-4D63-AD75-4CCD2592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57E3-3741-464B-91A0-A864D26C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FD83A3-2FE1-4C67-8F49-BF87F841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6B2FCB-D0E6-473F-A661-3A5835A0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D50558-673B-4C70-9545-CE8DE403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B07F6C-AD02-43DA-BD88-5C00D005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0D0F12-9872-4324-8F66-85DBAE45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A51209-A425-42A5-A3D8-1EC6E8A2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368B6F-7540-4BF0-80F6-965BC132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E61598-93D0-494F-B1B6-9BFD2571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7A60E6-4B8A-4FFD-A403-9DF1E35D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BAEDB0-67C1-4298-B3B6-A66E37A8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32E3-B0D2-4B60-ACCB-F783535A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9134BD-5794-4E1F-A72B-AA6D3ACF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754FE8-2DEF-4F96-A8EB-814E8BE2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A89945-F4EA-431C-B3DD-D8CD7301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B3D5C8-FC93-499B-8E65-A41BAFF1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E38E1A-5DEC-49F2-923A-5B46911A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33AB61-C2B8-4644-B3E6-A9A9EEC5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298D72-6BA8-4E21-9067-07981032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799CBE-8E04-4521-BEB5-CFA81F59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B5C6B2-C750-4E6D-9278-BEF8EC9C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E94E2A-8350-4270-A394-BC824DD0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0A0E-10D8-4741-A491-35CD3B92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3B8E16-BE55-4F3F-83C5-983CBB0B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F9C4A7-4859-4094-8232-77DE67DA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2C225C-9828-486E-9BAF-0A851840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480889-9957-41DE-BEC9-04C6B2EE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CC7CAD-F45B-457F-8910-28A94952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2F5235-4E50-494B-B087-C2F7F044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DFB383-3C1B-4085-BDB5-A0DA6F19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44398F-5474-483A-85AA-54CAA027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528B55-1647-4259-A43B-F75DA7BC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C5B4B3-3459-4BA9-BAEF-C01A16F7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112C-6D3F-4E6F-AE76-0D33C9BB7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66588B-3D01-4D4F-B6C5-854B7A6A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DD2E56-23F5-4170-9E46-5B49B127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D73C33-A5F3-436F-922C-B0D8DCE3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01E0DE-0C9C-4159-865F-F423F6AC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F80DA3-AB4F-4EEC-9EAC-057592E3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B63728-5A86-45BE-87B8-DE94AA43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F7D44D-7895-498E-B032-4F3AA5B3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1F54F5-25F2-46CB-80A0-20EA6E68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99744F-B5EC-4148-AA1B-71253E90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A9DE6C-30F2-42C5-8B39-CB69CEE1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9AAB-F51A-49E8-A4CB-38EE5123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CC0548-AB6D-4A51-9EAD-826A58D0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853954-95C8-4D3D-9C6C-FADECF57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639943-D2C7-42E9-B513-7334DD4D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C57108-52A1-47B7-951F-665D7367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59BA51-2FD9-4C3A-B568-D705E20B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9B27AC-0EF5-480A-8204-B67E328D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11D1EA-FAF7-4014-86B0-9C280F66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A5C08D-73FA-418B-A8F7-06048BE6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E9D53D-25DC-4C52-9813-613FECD7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C01947-7B8C-46CE-BA22-8A162C5C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015CA-8485-4885-B78C-E255CD16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69B35C-A51B-4CCF-BB7D-DE11E899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70E99F-E4F8-471D-A288-DCDD4450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B90EC5-2544-4296-A8AC-90A06B4F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EE9D1A-24DC-4FB8-A634-1EDCD310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BC229A-6320-4306-A924-92CC5375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A489C9-8407-4C06-B522-C7FFAE39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31CCFE-EA94-49D3-9372-BF782D1F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C682B7-F8C5-45CB-91A5-1B157EA2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3BA25C-4383-4A3D-B60F-DBDFF6A3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B1B762-D121-4BAB-BE33-E5381072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DBEF2-4EDD-4D25-AFDD-908BCC47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201D6B-9061-4A1C-BB73-59C62CBE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93CA20-7ACE-46BE-B7AC-D896C44F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4437E2-E5D8-4EAB-8D9F-B4BDCC5F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0F3D58-AD6D-4F3B-BCF4-1981D076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6583E2-B516-44B7-B844-088F8688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C7E185-4D99-4D15-9171-98D13E32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33FA7B-99B0-4825-8BBD-3CE8010F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F50109-2247-4D5E-9C44-F3F19847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434AC5-7D09-4345-909C-AE3F1785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97BA3E-30EC-41AA-B057-E9375559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2C92A-E502-4357-8F74-F7D5B400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893DD6-BF32-46AA-9E81-9D747E46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9D05BA-5408-4F0D-9D6F-9803018C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13A61C-1CC3-48C1-AF42-9FA94E31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8E0495-FB28-468A-9133-21403FC4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AFD47D-775D-4EF4-A097-576F7C07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A38C01-8C49-4435-9998-5F9DBB8E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53CC3F-CF44-49B5-8A51-FF85E4E4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97D0C-FED7-4952-9845-A78A31D9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6AA56-F803-4169-963B-A8ECEEC6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2CC5-9140-4F17-86AB-1A61B02C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B29F1-5C51-4FB3-B73B-3EF55A73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720F5-976D-4E75-857B-729BB2BE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75512-1890-492F-A0CB-B367EBEB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DF76A-8DED-48EA-9312-70C8B6C6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83EA9-0584-4F67-89BB-AD114D68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5E659-524D-45A8-AFE1-69A4927F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F677D-CE52-4EC5-82CC-ED176977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7B9AF-9154-4ED2-8901-B0EA4EAB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2E8A8-6039-462E-BDDF-A6B1D85A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4444C-9DF3-4C0B-ACD1-028A04E6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2EA3-B54B-4428-8319-7F9917BE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DB107-8862-4922-9F14-1161DF2F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F8DD9-ABFC-490F-9568-9CEEF2BA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62939-9D8F-46F2-B748-C7AFC88B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6F415-EE55-47EA-BF51-97EAA249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A6115-43E1-4BCE-A611-87E5272A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E9CD0-9F36-44C2-AE21-479FF7E4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595D8-3C2C-4B21-9CAB-A69447E3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8840C-E327-4035-AAE9-877BED9F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5BDAA-E62D-4DAA-818B-E624EB38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26579-BB1F-4075-9E39-C74174F6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2EF1-6C23-4661-9C86-D0479F6C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7DD6A-AF71-45DA-BF3C-3BCC6629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76C91-E1C7-4DE6-8A98-6E1D6451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F6989-D179-4BAA-979E-EF515153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8CF7A-E235-49A1-AD1C-6F94E98A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ADAEF-3320-4BCC-9B30-694058AA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E16FB-4B7F-448C-84EA-352B62BA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25995-BA4E-4B28-8E6F-7F2B841F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67911-E3F7-41EC-80B3-024ED433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4B567-79D9-419B-8A7C-796B421D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ADC32-83C3-4D12-8FA3-489F66CF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7F81-627C-47EE-8831-0EDD3112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0F45B-1563-4719-A1CA-6F916E48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17043-EFA9-483E-A8B9-7EF2085F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040BA-0B9B-45AA-B42D-5C708E26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4D9D2-D200-4817-AFAF-50DA847A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5964A-1544-4ED1-97AE-3AD6D802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B318E-E470-49A2-AEA7-78D34778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FE249-35A0-43DE-BE2E-BAD0A90A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F1D84-B71C-4CBE-AE32-92489617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2EB65-726F-4AED-8476-46FBA6EE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7AF40-DE47-44A0-91CA-C2F3A416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A3CE-4950-4A3A-B994-D59496DC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934B8-C1D9-4D38-9009-BB51C172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5FE9F-2678-49B2-8FB8-1223A1A4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D0998-C10B-4E71-87D9-E4B4855B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6F008-76CA-41C2-8EC6-2BA9EEB3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C17ED-C3D1-461B-9AAC-3C58DF10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D0AF2-D2B2-4CB6-A863-7EF9107B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777A2-F025-4FD8-B895-00B0A959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9BB39-1901-494B-A3BB-641F7D1A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21FDB-4BDA-4D59-BA5E-8CD4762C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DC9A0-25B9-4934-BDA7-C33C04B2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E3AF-0571-4812-90DE-AA49A3CF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6888E-39C5-4C02-8B0B-993A6170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56B79-5353-49E3-82A1-2AB2818C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52DF7-F5EA-449D-8715-317283E5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68750-5654-4DFA-9E2C-5AA49600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2257D-4D90-41FA-B704-24BD5D51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F7BAA-1027-465F-9CC6-C266760F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71DA6-CAC5-4E4D-B00E-053BA52B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D2DCA-57E8-4E19-83D1-04189976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DEBDE-9F34-4876-91FF-C0C4195E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70384-AF95-4EC9-B90F-5E9B8460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6931-30F1-416C-A02C-97AC26B0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E1E6F-1E4B-4D56-998C-D52DE8C8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FFAC7-07EC-4B50-A115-5674F1FF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8EEEC-07E8-4EAE-9969-6EB24E87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8C41B-32A7-49F2-A638-EB6367E3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ADE48-BCFA-48A2-B5F1-764D8D4E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EB155-F8CD-4BDB-8266-8F4CBE93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3DEC9-9E59-472F-A41F-73FE66722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DCA10-E1EC-41C2-8BD4-D25F73DC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4047E-69B5-494F-8DB2-9365224B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8D0CF-C0B0-4B11-8FEE-8BCC4A13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F4D6-FA44-45E2-8A09-F25E4D5914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75A2-73B9-44E5-A2B3-FA0A32ECDE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3101-A743-4C8D-AA9A-46AFBA70FF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3E92-5C9D-4256-94C0-DF92BF8416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1FB9-E10B-4F1C-BDDE-EBC6A18858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8DBE-F834-4473-90FC-CB15688D80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53BE-9A04-4DC7-AB07-8C6D10294A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3C84-A824-4AC9-98BD-6221032EE3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1A75-55CF-4B54-9A2C-06B03408AD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B616-E857-4B4D-AE96-1C882926B0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8D6C-C312-4E9B-BBAD-DE8133F86F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81D5-21CD-4D15-98DF-E069B5464D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422F-730F-4C6D-A149-00F1AFD648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2AE2-CCDF-43BF-8787-69C7163F81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CD6D-3BAC-4005-8103-8309FB82C8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AD93-3D13-4CF0-AC8C-BF4EFB09A8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6095-8E95-47F2-BA36-68ADEFCD7A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6FAF-2F7D-4D2A-AE06-0E2D88B920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82C6-720D-4AD5-B289-D1B5D18CE3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08F2-6612-4051-ABC3-70C7C4D101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C84C-E9FC-4429-976D-23F71EF253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2F4B-E981-4F1B-82D1-5F34C2126AD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6E15-4F9C-477B-BFAE-41AA34912D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4801-5F3E-44B0-9FD9-6C7FC99A11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13CE-0B15-4785-BE15-EB4CCA2805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9152-4464-44DE-BAC4-BB3371E589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6219-B6B6-4245-B503-D49522E794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7528-5971-42B6-82A7-E5510F364F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7173-A27D-4ACA-B320-12436867BA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553A-C162-427E-BE8E-77ED8B1715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DB63-D358-4B59-8EB9-F483FAEDA0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831A-AAE2-455E-9A29-FDE7B700CF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C199-4CA0-44B1-94DA-1CA6EDF20D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BCBC-3F8D-4238-A2BE-C81C51ABC6F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ADED-ED01-428C-B8A4-5DAE9CDFBD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BCFE-4D01-4BE2-9C68-08F3AA901A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79E9-CB8B-4224-9921-F92AA4E794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F306-0FE4-4CF0-AB66-72248FDA53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D0E9-3BD0-47D2-AA59-AC5BAC05B7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1808-C75D-49B0-BE7E-633C9EA1BC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1153-C391-4C21-BC76-5CEBFEA604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96EA-EE03-4A4A-A218-9FF0ABC3DC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923760" y="2900520"/>
            <a:ext cx="729648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87280" y="878040"/>
            <a:ext cx="1914480" cy="31428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2" descr=""/>
          <p:cNvPicPr/>
          <p:nvPr/>
        </p:nvPicPr>
        <p:blipFill>
          <a:blip r:embed="rId2"/>
          <a:stretch/>
        </p:blipFill>
        <p:spPr>
          <a:xfrm>
            <a:off x="101520" y="1387440"/>
            <a:ext cx="8942400" cy="469584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395280" y="1413000"/>
            <a:ext cx="360360" cy="29340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395280" y="249228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395280" y="327492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395280" y="434664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7"/>
          <a:stretch/>
        </p:blipFill>
        <p:spPr>
          <a:xfrm>
            <a:off x="395280" y="5051520"/>
            <a:ext cx="36036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244440" y="1806480"/>
            <a:ext cx="6505560" cy="3056040"/>
          </a:xfrm>
          <a:prstGeom prst="rect">
            <a:avLst/>
          </a:prstGeom>
          <a:ln w="0">
            <a:noFill/>
          </a:ln>
        </p:spPr>
      </p:pic>
      <p:pic>
        <p:nvPicPr>
          <p:cNvPr id="1115" name="图片 3" descr=""/>
          <p:cNvPicPr/>
          <p:nvPr/>
        </p:nvPicPr>
        <p:blipFill>
          <a:blip r:embed="rId2"/>
          <a:stretch/>
        </p:blipFill>
        <p:spPr>
          <a:xfrm>
            <a:off x="6672240" y="2952720"/>
            <a:ext cx="2343240" cy="214308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3"/>
          <a:stretch/>
        </p:blipFill>
        <p:spPr>
          <a:xfrm>
            <a:off x="3203640" y="3056040"/>
            <a:ext cx="1152360" cy="2937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4"/>
          <a:stretch/>
        </p:blipFill>
        <p:spPr>
          <a:xfrm>
            <a:off x="3276720" y="3429000"/>
            <a:ext cx="1152360" cy="29376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5"/>
          <a:stretch/>
        </p:blipFill>
        <p:spPr>
          <a:xfrm>
            <a:off x="1979640" y="3789360"/>
            <a:ext cx="720720" cy="2937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6"/>
          <a:stretch/>
        </p:blipFill>
        <p:spPr>
          <a:xfrm>
            <a:off x="1692360" y="4149720"/>
            <a:ext cx="1295280" cy="29376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7"/>
          <a:stretch/>
        </p:blipFill>
        <p:spPr>
          <a:xfrm>
            <a:off x="1547640" y="4505400"/>
            <a:ext cx="72072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150840" y="1197000"/>
            <a:ext cx="6362640" cy="3160800"/>
          </a:xfrm>
          <a:prstGeom prst="rect">
            <a:avLst/>
          </a:prstGeom>
          <a:ln w="0">
            <a:noFill/>
          </a:ln>
        </p:spPr>
      </p:pic>
      <p:pic>
        <p:nvPicPr>
          <p:cNvPr id="1122" name="图片 2" descr=""/>
          <p:cNvPicPr/>
          <p:nvPr/>
        </p:nvPicPr>
        <p:blipFill>
          <a:blip r:embed="rId2"/>
          <a:stretch/>
        </p:blipFill>
        <p:spPr>
          <a:xfrm>
            <a:off x="6513480" y="1895400"/>
            <a:ext cx="2428920" cy="1876680"/>
          </a:xfrm>
          <a:prstGeom prst="rect">
            <a:avLst/>
          </a:prstGeom>
          <a:ln w="0">
            <a:noFill/>
          </a:ln>
        </p:spPr>
      </p:pic>
      <p:pic>
        <p:nvPicPr>
          <p:cNvPr id="1123" name="图片 3" descr=""/>
          <p:cNvPicPr/>
          <p:nvPr/>
        </p:nvPicPr>
        <p:blipFill>
          <a:blip r:embed="rId3"/>
          <a:stretch/>
        </p:blipFill>
        <p:spPr>
          <a:xfrm>
            <a:off x="128520" y="4406760"/>
            <a:ext cx="8885160" cy="132408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4"/>
          <a:stretch/>
        </p:blipFill>
        <p:spPr>
          <a:xfrm>
            <a:off x="684360" y="1816200"/>
            <a:ext cx="863280" cy="29376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5"/>
          <a:stretch/>
        </p:blipFill>
        <p:spPr>
          <a:xfrm>
            <a:off x="2268360" y="1811160"/>
            <a:ext cx="863640" cy="29376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6"/>
          <a:stretch/>
        </p:blipFill>
        <p:spPr>
          <a:xfrm>
            <a:off x="2411280" y="2530440"/>
            <a:ext cx="1656000" cy="29376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7"/>
          <a:stretch/>
        </p:blipFill>
        <p:spPr>
          <a:xfrm>
            <a:off x="1116000" y="3274920"/>
            <a:ext cx="1655640" cy="29376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8"/>
          <a:stretch/>
        </p:blipFill>
        <p:spPr>
          <a:xfrm>
            <a:off x="684360" y="3995640"/>
            <a:ext cx="1655640" cy="29376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9"/>
          <a:stretch/>
        </p:blipFill>
        <p:spPr>
          <a:xfrm>
            <a:off x="4067280" y="4005360"/>
            <a:ext cx="718920" cy="2937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10"/>
          <a:stretch/>
        </p:blipFill>
        <p:spPr>
          <a:xfrm>
            <a:off x="611280" y="5357880"/>
            <a:ext cx="424800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95400" y="1357200"/>
            <a:ext cx="8953200" cy="414360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2"/>
          <a:stretch/>
        </p:blipFill>
        <p:spPr>
          <a:xfrm>
            <a:off x="1476360" y="2095560"/>
            <a:ext cx="1655640" cy="2937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3"/>
          <a:stretch/>
        </p:blipFill>
        <p:spPr>
          <a:xfrm>
            <a:off x="3348000" y="2809800"/>
            <a:ext cx="3240000" cy="29376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4"/>
          <a:stretch/>
        </p:blipFill>
        <p:spPr>
          <a:xfrm>
            <a:off x="1187280" y="3554280"/>
            <a:ext cx="3024360" cy="29376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5"/>
          <a:stretch/>
        </p:blipFill>
        <p:spPr>
          <a:xfrm>
            <a:off x="2484360" y="4268880"/>
            <a:ext cx="1871640" cy="29376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6"/>
          <a:stretch/>
        </p:blipFill>
        <p:spPr>
          <a:xfrm>
            <a:off x="1547640" y="4989600"/>
            <a:ext cx="295308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17:03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